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42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2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13.png" ContentType="image/png"/>
  <Override PartName="/ppt/media/image7.jpeg" ContentType="image/jpeg"/>
  <Override PartName="/ppt/media/image11.png" ContentType="image/pn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93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93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  <p:sldId id="284" r:id="rId44"/>
    <p:sldId id="285" r:id="rId45"/>
    <p:sldId id="286" r:id="rId46"/>
    <p:sldId id="287" r:id="rId47"/>
    <p:sldId id="288" r:id="rId48"/>
    <p:sldId id="289" r:id="rId49"/>
    <p:sldId id="290" r:id="rId50"/>
    <p:sldId id="291" r:id="rId51"/>
    <p:sldId id="292" r:id="rId52"/>
    <p:sldId id="293" r:id="rId53"/>
    <p:sldId id="294" r:id="rId54"/>
    <p:sldId id="295" r:id="rId55"/>
    <p:sldId id="296" r:id="rId56"/>
    <p:sldId id="297" r:id="rId57"/>
    <p:sldId id="298" r:id="rId58"/>
    <p:sldId id="299" r:id="rId59"/>
    <p:sldId id="300" r:id="rId60"/>
    <p:sldId id="301" r:id="rId61"/>
    <p:sldId id="302" r:id="rId62"/>
    <p:sldId id="303" r:id="rId63"/>
    <p:sldId id="304" r:id="rId64"/>
    <p:sldId id="305" r:id="rId65"/>
    <p:sldId id="306" r:id="rId66"/>
    <p:sldId id="307" r:id="rId67"/>
    <p:sldId id="308" r:id="rId68"/>
    <p:sldId id="309" r:id="rId69"/>
    <p:sldId id="310" r:id="rId70"/>
    <p:sldId id="311" r:id="rId71"/>
    <p:sldId id="312" r:id="rId72"/>
    <p:sldId id="313" r:id="rId73"/>
    <p:sldId id="314" r:id="rId74"/>
    <p:sldId id="315" r:id="rId75"/>
    <p:sldId id="316" r:id="rId76"/>
    <p:sldId id="317" r:id="rId77"/>
    <p:sldId id="318" r:id="rId78"/>
    <p:sldId id="319" r:id="rId79"/>
    <p:sldId id="320" r:id="rId80"/>
    <p:sldId id="321" r:id="rId81"/>
    <p:sldId id="322" r:id="rId82"/>
    <p:sldId id="323" r:id="rId83"/>
    <p:sldId id="324" r:id="rId84"/>
    <p:sldId id="325" r:id="rId85"/>
    <p:sldId id="326" r:id="rId86"/>
    <p:sldId id="327" r:id="rId87"/>
    <p:sldId id="328" r:id="rId88"/>
    <p:sldId id="329" r:id="rId89"/>
    <p:sldId id="330" r:id="rId90"/>
    <p:sldId id="331" r:id="rId91"/>
    <p:sldId id="332" r:id="rId92"/>
    <p:sldId id="333" r:id="rId93"/>
    <p:sldId id="334" r:id="rId94"/>
    <p:sldId id="335" r:id="rId95"/>
    <p:sldId id="336" r:id="rId96"/>
    <p:sldId id="337" r:id="rId97"/>
    <p:sldId id="338" r:id="rId98"/>
    <p:sldId id="339" r:id="rId99"/>
    <p:sldId id="340" r:id="rId100"/>
    <p:sldId id="341" r:id="rId101"/>
    <p:sldId id="342" r:id="rId102"/>
    <p:sldId id="343" r:id="rId103"/>
    <p:sldId id="344" r:id="rId104"/>
    <p:sldId id="345" r:id="rId105"/>
    <p:sldId id="346" r:id="rId106"/>
    <p:sldId id="347" r:id="rId107"/>
    <p:sldId id="348" r:id="rId10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slide" Target="slides/slide29.xml"/><Relationship Id="rId45" Type="http://schemas.openxmlformats.org/officeDocument/2006/relationships/slide" Target="slides/slide30.xml"/><Relationship Id="rId46" Type="http://schemas.openxmlformats.org/officeDocument/2006/relationships/slide" Target="slides/slide31.xml"/><Relationship Id="rId47" Type="http://schemas.openxmlformats.org/officeDocument/2006/relationships/slide" Target="slides/slide32.xml"/><Relationship Id="rId48" Type="http://schemas.openxmlformats.org/officeDocument/2006/relationships/slide" Target="slides/slide33.xml"/><Relationship Id="rId49" Type="http://schemas.openxmlformats.org/officeDocument/2006/relationships/slide" Target="slides/slide34.xml"/><Relationship Id="rId50" Type="http://schemas.openxmlformats.org/officeDocument/2006/relationships/slide" Target="slides/slide35.xml"/><Relationship Id="rId51" Type="http://schemas.openxmlformats.org/officeDocument/2006/relationships/slide" Target="slides/slide36.xml"/><Relationship Id="rId52" Type="http://schemas.openxmlformats.org/officeDocument/2006/relationships/slide" Target="slides/slide37.xml"/><Relationship Id="rId53" Type="http://schemas.openxmlformats.org/officeDocument/2006/relationships/slide" Target="slides/slide38.xml"/><Relationship Id="rId54" Type="http://schemas.openxmlformats.org/officeDocument/2006/relationships/slide" Target="slides/slide39.xml"/><Relationship Id="rId55" Type="http://schemas.openxmlformats.org/officeDocument/2006/relationships/slide" Target="slides/slide40.xml"/><Relationship Id="rId56" Type="http://schemas.openxmlformats.org/officeDocument/2006/relationships/slide" Target="slides/slide41.xml"/><Relationship Id="rId57" Type="http://schemas.openxmlformats.org/officeDocument/2006/relationships/slide" Target="slides/slide42.xml"/><Relationship Id="rId58" Type="http://schemas.openxmlformats.org/officeDocument/2006/relationships/slide" Target="slides/slide43.xml"/><Relationship Id="rId59" Type="http://schemas.openxmlformats.org/officeDocument/2006/relationships/slide" Target="slides/slide44.xml"/><Relationship Id="rId60" Type="http://schemas.openxmlformats.org/officeDocument/2006/relationships/slide" Target="slides/slide45.xml"/><Relationship Id="rId61" Type="http://schemas.openxmlformats.org/officeDocument/2006/relationships/slide" Target="slides/slide46.xml"/><Relationship Id="rId62" Type="http://schemas.openxmlformats.org/officeDocument/2006/relationships/slide" Target="slides/slide47.xml"/><Relationship Id="rId63" Type="http://schemas.openxmlformats.org/officeDocument/2006/relationships/slide" Target="slides/slide48.xml"/><Relationship Id="rId64" Type="http://schemas.openxmlformats.org/officeDocument/2006/relationships/slide" Target="slides/slide49.xml"/><Relationship Id="rId65" Type="http://schemas.openxmlformats.org/officeDocument/2006/relationships/slide" Target="slides/slide50.xml"/><Relationship Id="rId66" Type="http://schemas.openxmlformats.org/officeDocument/2006/relationships/slide" Target="slides/slide51.xml"/><Relationship Id="rId67" Type="http://schemas.openxmlformats.org/officeDocument/2006/relationships/slide" Target="slides/slide52.xml"/><Relationship Id="rId68" Type="http://schemas.openxmlformats.org/officeDocument/2006/relationships/slide" Target="slides/slide53.xml"/><Relationship Id="rId69" Type="http://schemas.openxmlformats.org/officeDocument/2006/relationships/slide" Target="slides/slide54.xml"/><Relationship Id="rId70" Type="http://schemas.openxmlformats.org/officeDocument/2006/relationships/slide" Target="slides/slide55.xml"/><Relationship Id="rId71" Type="http://schemas.openxmlformats.org/officeDocument/2006/relationships/slide" Target="slides/slide56.xml"/><Relationship Id="rId72" Type="http://schemas.openxmlformats.org/officeDocument/2006/relationships/slide" Target="slides/slide57.xml"/><Relationship Id="rId73" Type="http://schemas.openxmlformats.org/officeDocument/2006/relationships/slide" Target="slides/slide58.xml"/><Relationship Id="rId74" Type="http://schemas.openxmlformats.org/officeDocument/2006/relationships/slide" Target="slides/slide59.xml"/><Relationship Id="rId75" Type="http://schemas.openxmlformats.org/officeDocument/2006/relationships/slide" Target="slides/slide60.xml"/><Relationship Id="rId76" Type="http://schemas.openxmlformats.org/officeDocument/2006/relationships/slide" Target="slides/slide61.xml"/><Relationship Id="rId77" Type="http://schemas.openxmlformats.org/officeDocument/2006/relationships/slide" Target="slides/slide62.xml"/><Relationship Id="rId78" Type="http://schemas.openxmlformats.org/officeDocument/2006/relationships/slide" Target="slides/slide63.xml"/><Relationship Id="rId79" Type="http://schemas.openxmlformats.org/officeDocument/2006/relationships/slide" Target="slides/slide64.xml"/><Relationship Id="rId80" Type="http://schemas.openxmlformats.org/officeDocument/2006/relationships/slide" Target="slides/slide65.xml"/><Relationship Id="rId81" Type="http://schemas.openxmlformats.org/officeDocument/2006/relationships/slide" Target="slides/slide66.xml"/><Relationship Id="rId82" Type="http://schemas.openxmlformats.org/officeDocument/2006/relationships/slide" Target="slides/slide67.xml"/><Relationship Id="rId83" Type="http://schemas.openxmlformats.org/officeDocument/2006/relationships/slide" Target="slides/slide68.xml"/><Relationship Id="rId84" Type="http://schemas.openxmlformats.org/officeDocument/2006/relationships/slide" Target="slides/slide69.xml"/><Relationship Id="rId85" Type="http://schemas.openxmlformats.org/officeDocument/2006/relationships/slide" Target="slides/slide70.xml"/><Relationship Id="rId86" Type="http://schemas.openxmlformats.org/officeDocument/2006/relationships/slide" Target="slides/slide71.xml"/><Relationship Id="rId87" Type="http://schemas.openxmlformats.org/officeDocument/2006/relationships/slide" Target="slides/slide72.xml"/><Relationship Id="rId88" Type="http://schemas.openxmlformats.org/officeDocument/2006/relationships/slide" Target="slides/slide73.xml"/><Relationship Id="rId89" Type="http://schemas.openxmlformats.org/officeDocument/2006/relationships/slide" Target="slides/slide74.xml"/><Relationship Id="rId90" Type="http://schemas.openxmlformats.org/officeDocument/2006/relationships/slide" Target="slides/slide75.xml"/><Relationship Id="rId91" Type="http://schemas.openxmlformats.org/officeDocument/2006/relationships/slide" Target="slides/slide76.xml"/><Relationship Id="rId92" Type="http://schemas.openxmlformats.org/officeDocument/2006/relationships/slide" Target="slides/slide77.xml"/><Relationship Id="rId93" Type="http://schemas.openxmlformats.org/officeDocument/2006/relationships/slide" Target="slides/slide78.xml"/><Relationship Id="rId94" Type="http://schemas.openxmlformats.org/officeDocument/2006/relationships/slide" Target="slides/slide79.xml"/><Relationship Id="rId95" Type="http://schemas.openxmlformats.org/officeDocument/2006/relationships/slide" Target="slides/slide80.xml"/><Relationship Id="rId96" Type="http://schemas.openxmlformats.org/officeDocument/2006/relationships/slide" Target="slides/slide81.xml"/><Relationship Id="rId97" Type="http://schemas.openxmlformats.org/officeDocument/2006/relationships/slide" Target="slides/slide82.xml"/><Relationship Id="rId98" Type="http://schemas.openxmlformats.org/officeDocument/2006/relationships/slide" Target="slides/slide83.xml"/><Relationship Id="rId99" Type="http://schemas.openxmlformats.org/officeDocument/2006/relationships/slide" Target="slides/slide84.xml"/><Relationship Id="rId100" Type="http://schemas.openxmlformats.org/officeDocument/2006/relationships/slide" Target="slides/slide85.xml"/><Relationship Id="rId101" Type="http://schemas.openxmlformats.org/officeDocument/2006/relationships/slide" Target="slides/slide86.xml"/><Relationship Id="rId102" Type="http://schemas.openxmlformats.org/officeDocument/2006/relationships/slide" Target="slides/slide87.xml"/><Relationship Id="rId103" Type="http://schemas.openxmlformats.org/officeDocument/2006/relationships/slide" Target="slides/slide88.xml"/><Relationship Id="rId104" Type="http://schemas.openxmlformats.org/officeDocument/2006/relationships/slide" Target="slides/slide89.xml"/><Relationship Id="rId105" Type="http://schemas.openxmlformats.org/officeDocument/2006/relationships/slide" Target="slides/slide90.xml"/><Relationship Id="rId106" Type="http://schemas.openxmlformats.org/officeDocument/2006/relationships/slide" Target="slides/slide91.xml"/><Relationship Id="rId107" Type="http://schemas.openxmlformats.org/officeDocument/2006/relationships/slide" Target="slides/slide92.xml"/><Relationship Id="rId108" Type="http://schemas.openxmlformats.org/officeDocument/2006/relationships/slide" Target="slides/slide9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6"/>
          <p:cNvSpPr>
            <a:spLocks noGrp="1"/>
          </p:cNvSpPr>
          <p:nvPr>
            <p:ph type="sldNum" idx="4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34FF0-9051-4828-86A5-D44E30A2FB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01901-7A50-4A6B-9BCC-65243E84C6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16DDF-46B9-44CC-B755-7185A6EBEA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8600C-9009-45A3-B623-080909757C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7CA2A-CA80-4BB8-8AF1-FDB8DABC3A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BE6CA-D68F-448B-860F-A99B6A70A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FE348-57D6-4194-A31F-D45E9A139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274523-B294-4B18-B68E-AA97D9A4A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D2D7A5-5A3B-4C15-AA33-6FC47071E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54326F-44D8-4CFE-B208-1C7D60077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A6FE58-D5AE-4758-BEB3-01F922CBA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80591C-FBA1-4D92-93CD-5688C5E04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B37B3E-C341-4F44-AFB3-04905BB02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75C66A-0E78-4C5F-9B50-67884628C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502917-3CA7-4A76-A041-3A167FAAD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59E23C-AB60-4FE0-BF97-E92A99D48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F62163-F61B-4712-8523-A0724A48D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386F0-CDD4-4764-91B8-D784D2CE2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9C3047-EB75-49E7-9F7A-B699A1884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CE3038-8E69-46F9-ADDA-2FF3511C0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9C900C-2D3C-4B41-8383-9444C3AC5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73CF6B-5D7B-4561-8990-33E71C62C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A46525-3C25-4029-921F-1F697DA2F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EC16F6-A305-4436-BF35-AE43EF2A8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5A0D41-5233-47C2-AA38-A9A94AAC6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724B16-34A3-44D7-AC60-9351D174F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70868D-6367-4DED-8CAB-58B60C8A2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A20F1F-41C0-4A1D-BE5D-A056C1747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037BA-2136-4DDB-A0B2-51D373535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56AD06-9B7C-4014-AE72-888175F51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39F280-E39A-4559-804E-706FD2235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BB9AF7-E423-45D2-8892-18CD90F9B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4F99BE-C79B-4B21-A879-188724A86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FC06A7-E52C-4E22-90AF-80CB258AC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C7E7A3-EB59-4634-8C06-8C3492EE7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E7426C-8946-4F48-A929-B5DB4D2BC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ED0D59-91D5-4B2D-8A05-5171ABF41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03A6B1-9854-449F-B914-E4F80FA92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622AC5-14A0-439F-9313-DD34F4A72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0E511-00BC-4D97-A25F-8E28B4E62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C36538-4EDB-4627-89D2-560157E41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275F1F-7F29-4859-BB53-2EF51CC57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255CB7-9844-4E7A-AACC-F4512B0E3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846B70-E420-49EC-861C-2F0268C9E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71557E-BF85-48A9-88BD-0FF474C3D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42A5D7-CC6F-45DE-A142-E1455DD81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0C6CED-9C60-4A79-AB92-1AA1F5EB0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D82317-CF6F-436C-AFC6-F1A206DD0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F12AE4-45C2-4065-83CB-73168ED94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F5E757-E90B-4590-A061-0F2ACF222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324BA-F586-46BE-8D55-30FA80872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85E44D-ECB8-4273-95AC-459F0CF6A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9F531E-B9A9-4401-AFB4-35689FA24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5D02BC-D858-4586-BE43-E0E66DE5B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232E6F-A4A3-4201-997C-5E7B3928F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91C34D-3E56-4E8F-9BEA-41685600B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109472F-B9AA-42A6-AAA5-134EB538D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3F2C319-54ED-4CC6-935A-4A25A9B4D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4B079AF-EBEA-49D4-89B6-3AD3FDE5B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F2DF1D6-90C1-4A69-A8DF-6CC27545B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DB9F08F-94CB-45A3-82E1-77E2D6058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90E54-3378-40A6-A3B5-8B49AAA21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FED8D0F-6B18-430E-8414-E9E84A0F7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A64552D-FB50-416B-98F4-7BB02416B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635EDCE-6BBB-4B7C-AF87-19F5F7883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F7620C8-1DE7-4BFD-89F4-B4F85F325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631879C-F40C-4880-B177-CBAC55729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CD27BB4-B1E0-427B-9CB1-F3D1153B8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D45630C-6881-4086-A29F-26502724C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836B0-9CAA-4620-9E03-027E303F4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B9150-7201-4B6D-BE0F-DEB1B9EC8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2887E-A7A4-4987-BB28-D6AE0CA2C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1E164-2C96-4E30-BCB9-6AAAC4F1E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173CC-BF09-47F1-89AE-606B87BE3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27B85-E27F-480D-B8DB-20EBE4E30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EF9EE-E06D-4159-A122-27B656D6B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93DBC-017D-4785-A7BF-3E905E5D9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F4F01-7E16-4EB8-8CFF-431FC89CF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51444-168C-438B-909A-2D9CA958A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210FE5-727C-4878-804D-EC6AEF1B9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CAB7A2-75CB-4D6F-B74E-6E439D508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55257B-237B-4394-AA3D-095CF9D72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9A197E-8950-42A8-A367-1DA09F10B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CBBFED-C829-449A-926E-95A8A0C24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BEC36-A644-4C08-9550-6484BCA62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F924CD-9CCD-483E-A0B3-A3FE6A5C4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CECC18-5E80-468E-82DD-6404E86C9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1285F1-6188-4BAD-ACB4-6CABCE40E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DC354B-5F6D-4660-AD6D-EB18466F2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0F8FFB-1ADB-4853-A607-B7085F618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2D396A-D9C5-4A9F-87E6-78070EBC7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4ED769-AB65-4417-AF95-DC1771786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FF6140-3ABF-4326-9B34-D20E3783B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2AE6D0-D581-4228-A56F-6A2299465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F834BB-F782-4CD0-96E8-78886C1AE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AA648-5FF0-4E46-902D-5BD21F76C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33F929-84E8-442D-A69C-A9B6E6A6A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7EB275-B9F1-487F-9A52-F40CF3733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F0A286-AB8C-4196-9AF3-B59B74FE5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6D47DC-9E32-44A2-A15E-DB772A346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E062E6-6604-46A0-A942-801A77107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C8B6C1-88C8-48EC-97DA-FF21E2F20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124745-4A28-4A6F-901A-96C140FE9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42A124-6D2D-4E6A-96F4-C615E1E78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0120EF-0F2C-4E7E-B465-8388B2A82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B47CD4-0652-4491-A5B4-237F7CEB9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3A884-97FE-46E7-B0F1-D40110C2F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694C26-B0A0-465F-8062-A95B120C6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17A5F9-C552-44D5-AF39-43639CC04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DB00D5-E3E0-47A8-ACD4-1011367C1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8F1C97-1284-4F30-90FC-8401541D1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6B4C4F-E668-4CA7-8BEC-27E69CCBA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3ECFE5-DFB0-4E2B-8753-EE8357AEC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8115E9-8119-4CBD-9865-553E16C44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DB8238-7077-4BCC-84AF-2960B1BBF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6143C9-B193-4B19-A5E9-75ABA02E0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19980A-C54B-4458-B5D4-7D4B9B7F5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0EE2B-73DD-4A9C-A9DB-E9569E35F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618513-1614-49D0-8CEA-CA10A60BB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B2961C-00CB-4732-9E9B-B181B296E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C225DD-38DA-4CC2-B372-301801426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F0D3DF-3E17-4488-A7C8-4515EE1EA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DBDD16-6F75-4124-85E7-82B71B677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370EF8-A964-4105-A04D-8C9443C44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C53BB6-F635-4E10-A80C-63648D686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E4A8E8-33E3-41AC-85EB-20B22329C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7E58D1-74FD-40F3-8ECB-1F7F11F2E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FDE8E0-E79C-43A4-B858-615DE7411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66BDB-6CD9-4A25-A1F3-73D53FF45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B04FAE-3D38-456B-83F9-BAACF35C5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148D4C-BD09-416B-9311-DDCBDB253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4BDEC5-10BB-4EF5-8C9E-B2019A8EB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0ECCCD-3BFA-4277-B2C5-1EAB996FA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F2BD92-99A2-4409-A9A7-5681889B5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9F8B40-C271-4A68-9E0F-57817FDC8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84DB8A-A206-4827-ABFC-6D884CA8A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4B466A-E6D1-4CFE-9C36-60FC53381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5D8CD6-1419-4929-9484-0A89BBE9D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162DE6-738E-4611-8EED-59971155B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C71C6-FED4-4707-BB04-C992D3062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CF35FB-AF64-45A9-A399-84BE50F4C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3E987F-83FF-4D46-A143-031F30AD2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3910AE-9610-4827-8E76-37B5B6FFD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7C3CE4-A2C2-46B5-B7BF-A53B0F6D1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75A6B5-08C7-45D9-9C54-FA51ACC66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BABF7D-0CCA-4BBC-A41C-809E4DCA7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1163B8-4EEF-46A2-8BCF-8717DE287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E86A3A-DAEF-4F83-980C-665B1EBA8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51FE09-C22F-49CF-BF1C-70BC7769B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7B8EDE-6C00-46EC-97C6-11A63F96B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24041-0E98-45C2-A881-C6E7FF25C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53BAEC-C117-4B70-B98E-54E3933E7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EF9ECC-0EC3-4541-8599-CEF7C207D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A2B7B7-D1A0-4EE6-82F7-170E917A6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6E2731-022E-440C-BBAD-2DAD8F5A6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1CBD04-5761-4818-BC85-E5EB3981E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C02184-7038-437C-BE8D-BD993F087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800E02-0E44-4A07-A1AF-F3E7E2516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256CF7-20DD-4584-BC2A-CD0DE0184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4EACCD-2606-460C-BBC3-01E404A8A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94361A-CDE4-40D0-A636-F6EB7AD28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518F6-FB75-492C-9789-D2669F585C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581EA-2D37-4776-B673-968912A01E09}" type="slidenum">
              <a:rPr b="0" lang="hr-H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1DE21-187B-4A0F-8D59-7F9124B1A75B}" type="slidenum">
              <a:rPr b="0" lang="hr-H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1787D-3E77-4BFC-9916-35404399B4C4}" type="slidenum">
              <a:rPr b="0" lang="hr-H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08433-972E-4A51-8953-7B5353D0D23B}" type="slidenum">
              <a:rPr b="0" lang="hr-H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06079-3C27-40AB-A05C-318226A09D1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6D46B-096E-4A41-8712-001C66E552EA}" type="slidenum">
              <a:rPr b="0" lang="hr-H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5F0FE-E304-4264-8007-79D8DC92D116}" type="slidenum">
              <a:rPr b="0" lang="hr-H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33E9D-823D-46FE-BD77-04306CCF40A8}" type="slidenum">
              <a:rPr b="0" lang="hr-H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8AFDF-3240-401F-9EC9-57FB5027C50F}" type="slidenum">
              <a:rPr b="0" lang="hr-H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A1CDB-A92C-4374-9770-B1D99F67D2D0}" type="slidenum">
              <a:rPr b="0" lang="hr-H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4B539-52AA-4402-B894-452972C2317A}" type="slidenum">
              <a:rPr b="0" lang="hr-H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C597D-0DDA-4821-B399-C4880EC11307}" type="slidenum">
              <a:rPr b="0" lang="hr-H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"/>
          <p:cNvSpPr txBox="1"/>
          <p:nvPr/>
        </p:nvSpPr>
        <p:spPr>
          <a:xfrm>
            <a:off x="457200" y="78588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котоксикологија.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овања из животне средине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гијена и екологиј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тврта недеља настав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42960" y="16426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ТРОВАЊЕ ГВОЖЂЕ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8" name="Picture 4" descr=""/>
          <p:cNvPicPr/>
          <p:nvPr/>
        </p:nvPicPr>
        <p:blipFill>
          <a:blip r:embed="rId1"/>
          <a:stretch/>
        </p:blipFill>
        <p:spPr>
          <a:xfrm>
            <a:off x="1714680" y="3071880"/>
            <a:ext cx="5715000" cy="28573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708688">
                <a:alpha val="50000"/>
              </a:srgbClr>
            </a:outerShdw>
          </a:effectLst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851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вожђе, значај и физиолошка улог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 type="subTitle"/>
          </p:nvPr>
        </p:nvSpPr>
        <p:spPr>
          <a:xfrm>
            <a:off x="533160" y="1371600"/>
            <a:ext cx="785484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пходно за нормалан развој и функционисање организ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реб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 веома малим количинама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њ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гова искори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љивост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ије апсолут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ганизам није у стању сам да га ствара, већ се уноси искључиво исхран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вожђе се налази у организму у количини од 3,5 до 4 грама. Највише га им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саставу хемоглобина (до 70 %), део се налази у миоглобину и ензимим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о 25 % као резерва, везано за беланчевине феритин и хемосидерин, као и трансферин који служи за транспорт гвожђа међу ткивим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8229600" cy="67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ланс гвожђа и потребан унос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оје две врсте гвожђа које се уносе исхраном, и то: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хем-гвожђ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не хем-гвожђ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Хем-гвожђ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 намирницама животињског порекла и месу и прерађевинама апсорбује се директно и искористљивост износи 20-30 %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Н</a:t>
            </a:r>
            <a:r>
              <a:rPr b="0" lang="sr-C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е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хем-гвожђ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з цереалија, поврћа, семенки, легуминоза, воћа-искористивост 1-20%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2" name="Picture 7" descr="D:\Fax\Higijena\преузимање.jpg"/>
          <p:cNvPicPr/>
          <p:nvPr/>
        </p:nvPicPr>
        <p:blipFill>
          <a:blip r:embed="rId1"/>
          <a:stretch/>
        </p:blipFill>
        <p:spPr>
          <a:xfrm>
            <a:off x="4267080" y="4267080"/>
            <a:ext cx="4876920" cy="2590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Subtitle 2"/>
          <p:cNvSpPr/>
          <p:nvPr/>
        </p:nvSpPr>
        <p:spPr>
          <a:xfrm>
            <a:off x="457200" y="0"/>
            <a:ext cx="7715160" cy="66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000000"/>
                </a:solidFill>
                <a:latin typeface="Times New Roman"/>
              </a:rPr>
              <a:t>Токсичност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Нежељене последице се јављају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 u="sng">
                <a:solidFill>
                  <a:srgbClr val="000000"/>
                </a:solidFill>
                <a:uFillTx/>
                <a:latin typeface="Times New Roman"/>
              </a:rPr>
              <a:t>акутно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 при уносу једне велике дозе, ил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 u="sng">
                <a:solidFill>
                  <a:srgbClr val="000000"/>
                </a:solidFill>
                <a:uFillTx/>
                <a:latin typeface="Times New Roman"/>
              </a:rPr>
              <a:t>хронично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 при нагомилавању гвожђа у организму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Акутно тровање гвожђем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Акцидентално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ретко код одраслих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чешће код мале деце која су конзумирала велике количине суплементационих пилула гвожђа.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не подсећају на бомбоне што олакшава одлуку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деце да прогу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т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ају веће количине ових препарат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4" name="Content Placeholder 3" descr="images (2).jpg"/>
          <p:cNvPicPr/>
          <p:nvPr/>
        </p:nvPicPr>
        <p:blipFill>
          <a:blip r:embed="rId1"/>
          <a:stretch/>
        </p:blipFill>
        <p:spPr>
          <a:xfrm>
            <a:off x="3157560" y="3048120"/>
            <a:ext cx="2828880" cy="1633320"/>
          </a:xfrm>
          <a:prstGeom prst="rect">
            <a:avLst/>
          </a:prstGeom>
          <a:ln w="0">
            <a:noFill/>
          </a:ln>
        </p:spPr>
      </p:pic>
      <p:sp>
        <p:nvSpPr>
          <p:cNvPr id="595" name="Subtitle 2"/>
          <p:cNvSpPr/>
          <p:nvPr/>
        </p:nvSpPr>
        <p:spPr>
          <a:xfrm>
            <a:off x="228600" y="228600"/>
            <a:ext cx="8686800" cy="64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Рестрикције величине паковања суплемената су у употреби у САД-у.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Граница од 250 mg елементарног гвожђа се користи од 1978. Примена ових препорука за величину појединачна паковања се сматра да је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довела до умањења броја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 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аталности од тровања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репаратима гвожђ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"/>
          <p:cNvSpPr txBox="1"/>
          <p:nvPr/>
        </p:nvSpPr>
        <p:spPr>
          <a:xfrm>
            <a:off x="457200" y="152280"/>
            <a:ext cx="82296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иничка слика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мптоми тровања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 минута до неколико сати од узимања гвожђа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минирају симптоми од стране гастроинтестиналног тракта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раћање,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ови у стомаку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јареја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аонкасто-сукрвичав садржај, помешан са таблетама или капсулама гвожђа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едило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ијаноза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паност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первентилација због ацидозе и кардиоваскуларни колапс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Subtitle 2"/>
          <p:cNvSpPr/>
          <p:nvPr/>
        </p:nvSpPr>
        <p:spPr>
          <a:xfrm>
            <a:off x="304920" y="152280"/>
            <a:ext cx="8083440" cy="50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мрт може да наступи веома брзо, унутар 6 сати од почетка тровања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Неопходно је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утвр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дит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концентрациј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гвожђа у плазми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урадити радиографски снимак стомака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могу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се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уочити нересорбоване таблете у дигестивном тракту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Times New Roman"/>
              </a:rPr>
              <a:t>Лечење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г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астрична лаважа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активни угаљ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римена еметика и лаксатива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инфузије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у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корекциј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хипотензије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хелатна терапиј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Subtitle 2"/>
          <p:cNvSpPr/>
          <p:nvPr/>
        </p:nvSpPr>
        <p:spPr>
          <a:xfrm>
            <a:off x="1332000" y="2971800"/>
            <a:ext cx="533376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subTitle"/>
          </p:nvPr>
        </p:nvSpPr>
        <p:spPr>
          <a:xfrm>
            <a:off x="533160" y="228240"/>
            <a:ext cx="785484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емохроматоз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ољење узроковано таложењем гвожђа у паренхимским органима. Најчешћ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тр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нкреас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ц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ж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о крајњи исход болести настаје инсуфицијенција поменутих орган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арна хемохроматоза је генетски узрокован поремећај метаболизма гвожђ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subTitle"/>
          </p:nvPr>
        </p:nvSpPr>
        <p:spPr>
          <a:xfrm>
            <a:off x="380520" y="151920"/>
            <a:ext cx="8153640" cy="67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иничка слик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ојне су манифестациј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ироза јетре,увећана, чврсте конзистенциј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ци портне хипертензије (варикси једњака, асцитес, хепатична енцефалопатија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цином јетре се јавља код 15-30% оболели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јабетес мелитус се јавља у око три четвртине болесни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1" name="Picture 3" descr="D:\Fax\Higijena\images (23).jpg"/>
          <p:cNvPicPr/>
          <p:nvPr/>
        </p:nvPicPr>
        <p:blipFill>
          <a:blip r:embed="rId1"/>
          <a:stretch/>
        </p:blipFill>
        <p:spPr>
          <a:xfrm>
            <a:off x="1752480" y="4191120"/>
            <a:ext cx="3810240" cy="243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мно сива пребојеност коже, дифузно распоређена, али јаче изражена на откривеним деловима тела (лице, врат, екстеремитети) и у подручјима перманентне иритациј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бог таложења гвожђа у миокарду, развија се кардиомиопатија са поремећајем ритма и срчаном инсуфицијенциј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ложење гвожђа у предњем режњу хипофизе смањује секрецију гонадотропина са клиничком манифестацијом атрофије тестиса и губитком либид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3" name="Picture 5" descr="D:\Fax\Higijena\преузимање (5).jpg"/>
          <p:cNvPicPr/>
          <p:nvPr/>
        </p:nvPicPr>
        <p:blipFill>
          <a:blip r:embed="rId1"/>
          <a:stretch/>
        </p:blipFill>
        <p:spPr>
          <a:xfrm>
            <a:off x="5357880" y="4714920"/>
            <a:ext cx="2666880" cy="1714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АЛ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ом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ступљен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род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енам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дам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емљишту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д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здуху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порн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родну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градациј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3" name="Picture 8" descr="http://image.slidesharecdn.com/pse-111021102653-phpapp02/95/pse-29-728.jpg?cb=1319192910"/>
          <p:cNvPicPr/>
          <p:nvPr/>
        </p:nvPicPr>
        <p:blipFill>
          <a:blip r:embed="rId1"/>
          <a:stretch/>
        </p:blipFill>
        <p:spPr>
          <a:xfrm>
            <a:off x="642960" y="3429000"/>
            <a:ext cx="3549600" cy="2662200"/>
          </a:xfrm>
          <a:prstGeom prst="rect">
            <a:avLst/>
          </a:prstGeom>
          <a:ln w="0">
            <a:noFill/>
          </a:ln>
        </p:spPr>
      </p:pic>
      <p:pic>
        <p:nvPicPr>
          <p:cNvPr id="544" name="Picture 12" descr=""/>
          <p:cNvPicPr/>
          <p:nvPr/>
        </p:nvPicPr>
        <p:blipFill>
          <a:blip r:embed="rId2"/>
          <a:srcRect l="1286" t="7461" r="5103" b="2839"/>
          <a:stretch/>
        </p:blipFill>
        <p:spPr>
          <a:xfrm>
            <a:off x="4572000" y="3429000"/>
            <a:ext cx="4229280" cy="207180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4" name="Content Placeholder 3" descr="преузимање (7).jpg"/>
          <p:cNvPicPr/>
          <p:nvPr/>
        </p:nvPicPr>
        <p:blipFill>
          <a:blip r:embed="rId1"/>
          <a:stretch/>
        </p:blipFill>
        <p:spPr>
          <a:xfrm>
            <a:off x="5192640" y="428760"/>
            <a:ext cx="3951360" cy="2143080"/>
          </a:xfrm>
          <a:prstGeom prst="rect">
            <a:avLst/>
          </a:prstGeom>
          <a:ln w="0">
            <a:noFill/>
          </a:ln>
        </p:spPr>
      </p:pic>
      <p:sp>
        <p:nvSpPr>
          <p:cNvPr id="605" name="Subtitle 2"/>
          <p:cNvSpPr/>
          <p:nvPr/>
        </p:nvSpPr>
        <p:spPr>
          <a:xfrm>
            <a:off x="457200" y="457200"/>
            <a:ext cx="785484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јагноза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spcBef>
                <a:spcPts val="601"/>
              </a:spcBef>
              <a:buClr>
                <a:srgbClr val="ffffff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мнезе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spcBef>
                <a:spcPts val="601"/>
              </a:spcBef>
              <a:buClr>
                <a:srgbClr val="ffffff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иничког прегледа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spcBef>
                <a:spcPts val="601"/>
              </a:spcBef>
              <a:buClr>
                <a:srgbClr val="ffffff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абораторијских налаза (повишено гвожђе у серуму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spcBef>
                <a:spcPts val="601"/>
              </a:spcBef>
              <a:buClr>
                <a:srgbClr val="ffffff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опсија јетре омогућава хистолошку дијагнозу и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стохемијско доказивање гвожђа у јетр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spcBef>
                <a:spcPts val="601"/>
              </a:spcBef>
              <a:buClr>
                <a:srgbClr val="ffffff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вожђе се може доказати и у кожи, слузокожи желуца, седименту мокраћ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buClr>
                <a:srgbClr val="fffff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"/>
          <p:cNvSpPr txBox="1"/>
          <p:nvPr/>
        </p:nvSpPr>
        <p:spPr>
          <a:xfrm>
            <a:off x="457200" y="304560"/>
            <a:ext cx="82296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чење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билизација и уклањање вишка гвожђа постиже се понављаним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непункцијама.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исте се и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елатни агенси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ји се везују за вишак гвожђа у серуму и затим га избацују путем урина и столице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овање оловом-</a:t>
            </a:r>
            <a:r>
              <a:rPr b="1" lang="hr-HR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турнизам</a:t>
            </a:r>
            <a:r>
              <a:rPr b="0" lang="hr-HR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8" name="Picture 3" descr="saturn-pictures-1"/>
          <p:cNvPicPr/>
          <p:nvPr/>
        </p:nvPicPr>
        <p:blipFill>
          <a:blip r:embed="rId1"/>
          <a:stretch/>
        </p:blipFill>
        <p:spPr>
          <a:xfrm>
            <a:off x="1981080" y="2325600"/>
            <a:ext cx="5562720" cy="3846600"/>
          </a:xfrm>
          <a:prstGeom prst="rect">
            <a:avLst/>
          </a:prstGeom>
          <a:ln w="0">
            <a:noFill/>
          </a:ln>
        </p:spPr>
      </p:pic>
      <p:sp>
        <p:nvSpPr>
          <p:cNvPr id="609" name="AutoShape 5"/>
          <p:cNvSpPr/>
          <p:nvPr/>
        </p:nvSpPr>
        <p:spPr>
          <a:xfrm>
            <a:off x="76320" y="-18252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ровни су оловна пара, дим и пра</a:t>
            </a:r>
            <a:r>
              <a:rPr b="0" lang="hr-HR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лово је метал сивкасто плаве боје, меке конзистенциј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вори експозиције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топионице руда олова, оловни бензин, ливнице, пестициди, антикорозивна заштита, акумулатори са оловом, индустрија нафте, штампарска индустриј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теви уноса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халација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најважнији пут уноса у професионалној токсикологији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гест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ркута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рганско олов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јважнији пут уноса неорганског олова је преко респираторног трак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0% неорганског олова се деопонује у костима а остатак у унутрашњим органи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ско олов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јважнији пут уноса органског олова је преко респираторног тракта, ихалацијом па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траетил-оло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јвећа концентрација ових органских једињења је у можданом ткив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"/>
          <p:cNvSpPr txBox="1"/>
          <p:nvPr/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мптоми лакшег облика тровања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вобољ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саниц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ражљивос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ловно бледило кож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вачка грозница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емија са ретикулоцитозом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ловни руб на десним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жи облици манифестног тровања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Гастроинтестинални облик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Неуромускуларни обл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Енцефалопатички обл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Мешовити обл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астроинтестинални обл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астроинтестинални облик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је најчешћи облик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ли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ловне коли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чни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раћањ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стипација или дијаре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ма врсти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енцијал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есенцијал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енцијални –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иолошки значајн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балт (Cо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кар (Cu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вожђе (F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гнезијум (M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нган (М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лен (S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инк (Z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ром (C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либден (Мо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рапија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турнизма</a:t>
            </a:r>
            <a:r>
              <a:rPr b="1" lang="hr-HR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окација повраћања и гастрична лаважа - код ингестије отров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цијум глуконатом - за купирање оловних колик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рбитурати - код конвулзија и Манитол - у случају појаве церебралног едем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елатна терапија - код акутног тровања комбинована хелатна кура БАЛ-ом и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a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DTA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 хроничног тровања даје се само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a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DTA 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трајању од 5 да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6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6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6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овање живом</a:t>
            </a:r>
            <a:br>
              <a:rPr sz="4000"/>
            </a:br>
            <a:r>
              <a:rPr b="1" lang="sr-C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ркуризам</a:t>
            </a:r>
            <a:r>
              <a:rPr b="0" lang="hr-H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AutoShape 6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7" name="Picture 8" descr="http://www.umjeravanjeiispitivanjelaboring.com/_Media/slomljeni_toplomjer_med.jpeg"/>
          <p:cNvPicPr/>
          <p:nvPr/>
        </p:nvPicPr>
        <p:blipFill>
          <a:blip r:embed="rId1"/>
          <a:stretch/>
        </p:blipFill>
        <p:spPr>
          <a:xfrm>
            <a:off x="2362320" y="2819520"/>
            <a:ext cx="4095720" cy="289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 txBox="1"/>
          <p:nvPr/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ва је сребрнасто бели метал у течном стању који већ на собној температури испара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родни извор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емљина ко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еа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улка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тропогени извор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дници живе, топионице живиних руда, ивори сагоревања фосилних гори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теви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нос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халација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g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ре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шине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јважнији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т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носа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фесионалној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ксикологији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кутано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гестија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зумација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бе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ансплацентарно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ски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g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јеви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стрибуција жив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 апсорпције жива се путем крви дистибуира по целом организм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рганска једињења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 највише депонују у бубрезим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ска једињења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 највише депонују у ЦНС-у и ткивима богатим мастим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овање неорганским спојевима жив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утно тровање неорганским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јевима жив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ша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спне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 при гутањ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чн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раћањ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ални укус у усти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персаливаци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бојене ивице гингива-живин ру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ронично тровање неорганским спојевима живе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 txBox="1"/>
          <p:nvPr/>
        </p:nvSpPr>
        <p:spPr>
          <a:xfrm>
            <a:off x="457200" y="128556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бос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лаксалос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офарингеални синдр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метални укус у устима, хиперсаливација, болови у устима, спонтано испадање зуб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урастенични синдр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стенично-вегетативни синдром (психофизичка астенија, умор, несаниц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вин тремо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вин еретиза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овање органским спојевима жив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урастеничне сметњ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Text Box 2"/>
          <p:cNvSpPr/>
          <p:nvPr/>
        </p:nvSpPr>
        <p:spPr>
          <a:xfrm>
            <a:off x="0" y="189000"/>
            <a:ext cx="86868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Сребрнасто-бели мета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Употреба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Металургиј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Електрична индустриј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Индустрија боја и хемијска индустрија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Фунгици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Rectangle 2"/>
          <p:cNvSpPr/>
          <p:nvPr/>
        </p:nvSpPr>
        <p:spPr>
          <a:xfrm>
            <a:off x="1071720" y="357120"/>
            <a:ext cx="678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МАНГАН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Text Box 2"/>
          <p:cNvSpPr/>
          <p:nvPr/>
        </p:nvSpPr>
        <p:spPr>
          <a:xfrm>
            <a:off x="228600" y="533520"/>
            <a:ext cx="8686800" cy="187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МЕТАБОЛИЗА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ПУТЕВИ УНОШЕЊ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3"/>
          <p:cNvSpPr/>
          <p:nvPr/>
        </p:nvSpPr>
        <p:spPr>
          <a:xfrm flipH="1">
            <a:off x="2819160" y="1828800"/>
            <a:ext cx="15238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Line 4"/>
          <p:cNvSpPr/>
          <p:nvPr/>
        </p:nvSpPr>
        <p:spPr>
          <a:xfrm>
            <a:off x="4572000" y="1828800"/>
            <a:ext cx="14479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Text Box 5"/>
          <p:cNvSpPr/>
          <p:nvPr/>
        </p:nvSpPr>
        <p:spPr>
          <a:xfrm>
            <a:off x="152280" y="2590920"/>
            <a:ext cx="8991720" cy="394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ПЛУЋА 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ГИТ (~ 5 %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(проф. експозиција)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(општа популација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 u="sng">
                <a:solidFill>
                  <a:srgbClr val="000000"/>
                </a:solidFill>
                <a:uFillTx/>
                <a:latin typeface="Times New Roman"/>
              </a:rPr>
              <a:t>ДИСТРИБУЦИЈ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КРВ </a:t>
            </a:r>
            <a:r>
              <a:rPr b="1" lang="sl-SI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ЈЕТРА, БУБРЕЗИ, ЕНДОКРИНЕ ЖЛЕЗДЕ, ПАНКРЕАС, МОЗАК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 u="sng">
                <a:solidFill>
                  <a:srgbClr val="000000"/>
                </a:solidFill>
                <a:uFillTx/>
                <a:latin typeface="Times New Roman"/>
              </a:rPr>
              <a:t>ЕЛИМИНАЦИЈ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ФЕЦЕС (95 %)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УРИН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(при </a:t>
            </a:r>
            <a:r>
              <a:rPr b="1" lang="sl-SI" sz="24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експозицији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 txBox="1"/>
          <p:nvPr/>
        </p:nvSpPr>
        <p:spPr>
          <a:xfrm>
            <a:off x="457200" y="713880"/>
            <a:ext cx="822960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Токсичн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сен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лово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Pb)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ва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Hg)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дмијум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d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рилијум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балт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C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кал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Ni)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инк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n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ром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Cr)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утно тровање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де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варењ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потенз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трофија нера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штећење бубре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вулзије и ко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ронично тровањ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таје после краће или дуже експозиције парама или прашини мангана или његових једињењ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кон латентног периода од 1 месеца до 10 и више година јављају се клинички знаци који пролази кроз 3 стадијум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дромал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ицијал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атент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Text Box 2"/>
          <p:cNvSpPr/>
          <p:nvPr/>
        </p:nvSpPr>
        <p:spPr>
          <a:xfrm>
            <a:off x="304920" y="457200"/>
            <a:ext cx="85341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Симптоми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трећег стадијума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одсећају на клиничку слику манганизма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тежан гово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мимиј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естабилност при ходу и стајањ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нтенциони тремо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8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апија</a:t>
            </a:r>
            <a:r>
              <a:rPr b="1" lang="sl-SI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 txBox="1"/>
          <p:nvPr/>
        </p:nvSpPr>
        <p:spPr>
          <a:xfrm>
            <a:off x="457200" y="121428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кид даље експозициј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тодневна мобилизациона терапија хелатима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a2EDTA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- Оправдано је ако је тровање дијагностиковано у иницијалној фази, када прекид експозиције доводи до спонтаног повлачења неуролошких испада, при чему се хелатима овај процес само убза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PA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2001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овање арсен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 txBox="1"/>
          <p:nvPr/>
        </p:nvSpPr>
        <p:spPr>
          <a:xfrm>
            <a:off x="250920" y="134136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вор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пиониц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изводња пестици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дустрија бојних отр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аболизам арсе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теви унос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спираторни систем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уједно најчешћ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астроинтестинални систем 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ко кож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анспортује се путем крви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јвећим делом везан за хемоглобин Er, мањим делом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зан за протеине плазм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умулира се у плућима, бубрезима и јетр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"/>
          <p:cNvSpPr txBox="1"/>
          <p:nvPr/>
        </p:nvSpPr>
        <p:spPr>
          <a:xfrm>
            <a:off x="457200" y="285480"/>
            <a:ext cx="8229600" cy="58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професионална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експозиц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југроженији у насељеним местима су у близини термоелектрана и топиониц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сен се ослобађа и сагоревањем дрве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гућност уношења арсена контаминираном хран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фесионална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експозиц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јвише угрожени радници у топионицама руда бакра и олов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индустрији пестици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јопаснији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сокотоксичан арсентриокси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ханизам токсичних ефеката арсе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овање арсеном може бит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утно и хронично тровањ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утно тровање арсено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азвано инхалациј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азвано ингетиј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утно тровање изазвано инхалацијом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чење у очи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чење у носу и ждрел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езање у груди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аша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спне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дем плућа – ретк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утно тровање изазвано ингестијом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 txBox="1"/>
          <p:nvPr/>
        </p:nvSpPr>
        <p:spPr>
          <a:xfrm>
            <a:off x="428760" y="1071720"/>
            <a:ext cx="82296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ађење и Повраћањ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 у трбух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ливи - мириса на бели лу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В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ијаноз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ладна и влажна кож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итмиј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ктори који утичу на токсичност: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ракције са есенцијалним елементи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ање комплекса метал-протеи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рост организ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чин живо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емијска форма мета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унолошки стату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"/>
          <p:cNvSpPr txBox="1"/>
          <p:nvPr/>
        </p:nvSpPr>
        <p:spPr>
          <a:xfrm>
            <a:off x="457200" y="571320"/>
            <a:ext cx="8229600" cy="55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Н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вобоља и летарг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вадриплег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лирију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вулзија и ко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емећај ви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мрт - за 2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4 да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ронично тровањ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нифестације хроничног тровања обухватају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мене на кожи и ноктим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сенска полинеуропат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штећење централног нервног система, јетре и бубре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ематолошки поремећаји са панцитопениј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ећање ризика за настанак карцинома коже, јетр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чење тровања арсено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ровести терапију едема плућ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елат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лиминисати отров из желуца провоцираним повраћањем и испирањем желуц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контаминација коже прањем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иговати поремећај електролит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екција дисбаланса воде и електролит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некад је потребна хемодијализа или перитонеална дијализ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ОВАЊЕ КАДМИЈУМ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 txBox="1"/>
          <p:nvPr/>
        </p:nvSpPr>
        <p:spPr>
          <a:xfrm>
            <a:off x="457200" y="128556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дмијум је метал сребрнасто беле боје, лако испарљи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теви унос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халаци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лни пу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рмални пу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поновањ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тра, мишићи, бубрез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лиминациј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уринарни систем, ГИТ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4000">
    <p:wipe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вори експозиције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опионицам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</a:t>
            </a:r>
            <a:r>
              <a:rPr b="0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 заваривању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</a:t>
            </a:r>
            <a:r>
              <a:rPr b="0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 галванизацији метал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</a:t>
            </a:r>
            <a:r>
              <a:rPr b="0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изводња никл-кадмијумских батериј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</a:t>
            </a:r>
            <a:r>
              <a:rPr b="0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изводња и употреба кадмијумских легур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</a:t>
            </a:r>
            <a:r>
              <a:rPr b="0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изводња боја, стакла, керамике и пластичних мас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</a:t>
            </a:r>
            <a:r>
              <a:rPr b="0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изводња вештачког ђубрива и пестицид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r>
              <a:rPr b="0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ктронска и нуклеарна индустриј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аминирана хран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2000">
    <p:wipe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тно тровање инхалацијом  кадмијум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озница и главобољ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спнеја и каша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ови у груди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њуктивитис и ринити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 експозиције већим концентрацијам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утни пнеумонити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онхопнеумон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дема плућ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4000">
    <p:wipe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тно тровање ингестијом  кадмијум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ка и гађењ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раћање и проли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ронично тровање кадмијум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емећај функције бубре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мене на кости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мене од стране респираторног систе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ронично тровање“Итаи-итаи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 txBox="1"/>
          <p:nvPr/>
        </p:nvSpPr>
        <p:spPr>
          <a:xfrm>
            <a:off x="456840" y="1294920"/>
            <a:ext cx="609588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</a:t>
            </a:r>
            <a:r>
              <a:rPr b="0" lang="hr-HR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готрајно излагање кадмијум</a:t>
            </a:r>
            <a:r>
              <a:rPr b="0" lang="sr-C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hr-HR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оводи до болести која је у Јапану позната као “</a:t>
            </a:r>
            <a:r>
              <a:rPr b="0" lang="sr-R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hr-HR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и-итаи”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</a:t>
            </a:r>
            <a:r>
              <a:rPr b="0" lang="hr-HR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хвата </a:t>
            </a:r>
            <a:r>
              <a:rPr b="1" lang="hr-HR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штано-зглобни систем</a:t>
            </a:r>
            <a:r>
              <a:rPr b="0" lang="hr-HR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</a:t>
            </a:r>
            <a:r>
              <a:rPr b="0" lang="hr-HR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тве погођене овом болешћу имале су </a:t>
            </a:r>
            <a:r>
              <a:rPr b="1" lang="hr-HR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лике количине кадмијума уз недостатак витамина 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1" lang="hr-HR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hr-HR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све то као последицу контаминациј</a:t>
            </a:r>
            <a:r>
              <a:rPr b="0" lang="sr-C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r>
              <a:rPr b="0" lang="hr-HR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иринча узгајаног на тлу које је наводњавано водом загађеном из рудника цинка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1" name="Picture 3" descr="Itai_itai.png"/>
          <p:cNvPicPr/>
          <p:nvPr/>
        </p:nvPicPr>
        <p:blipFill>
          <a:blip r:embed="rId1"/>
          <a:stretch/>
        </p:blipFill>
        <p:spPr>
          <a:xfrm>
            <a:off x="6477120" y="1214280"/>
            <a:ext cx="2666880" cy="2900520"/>
          </a:xfrm>
          <a:prstGeom prst="rect">
            <a:avLst/>
          </a:prstGeom>
          <a:ln w="0">
            <a:noFill/>
          </a:ln>
        </p:spPr>
      </p:pic>
      <p:pic>
        <p:nvPicPr>
          <p:cNvPr id="682" name="Picture 4" descr="Tomokos_hand.gif"/>
          <p:cNvPicPr/>
          <p:nvPr/>
        </p:nvPicPr>
        <p:blipFill>
          <a:blip r:embed="rId2"/>
          <a:stretch/>
        </p:blipFill>
        <p:spPr>
          <a:xfrm>
            <a:off x="6477120" y="4087800"/>
            <a:ext cx="2666880" cy="2770200"/>
          </a:xfrm>
          <a:prstGeom prst="rect">
            <a:avLst/>
          </a:prstGeom>
          <a:ln w="0">
            <a:noFill/>
          </a:ln>
        </p:spPr>
      </p:pic>
    </p:spTree>
  </p:cSld>
  <p:transition advTm="36000">
    <p:wipe dir="r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"/>
          <p:cNvSpPr txBox="1"/>
          <p:nvPr/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спозициони тестов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већана концентрација кадмијума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крви, коси и урин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глед урина (протеинурија, гликозурија, аминоацидурија, повећан ниво фосфата и калцијум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тодневни тест мобилизације хелатима (за процену величине депоа кадмијум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ТГ карлице и плућ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2000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82296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организам доспевају на неколико начина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халацијо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гестијо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ко кож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ко слузокоже о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плантацијом стране материј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"/>
          <p:cNvSpPr txBox="1"/>
          <p:nvPr/>
        </p:nvSpPr>
        <p:spPr>
          <a:xfrm>
            <a:off x="457200" y="214200"/>
            <a:ext cx="8229600" cy="603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чењ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овне мере лечења тровања кадмијумом су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зивање повраћања и гастрична лаважа (уколико је дошло до ингестиј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иторинг и лечење респираторне инсуфицијенције и лечење едема плућа (инхалационо тровањ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ање C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обазриво јер је доказано да примена ових агенаса повећава нефротоксично дејство кадмијум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птоматска терапија оштећења бубрега и јетр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екција дисбаланса воде и електроли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5000">
    <p:wipe dir="r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"/>
          <p:cNvSpPr txBox="1"/>
          <p:nvPr/>
        </p:nvSpPr>
        <p:spPr>
          <a:xfrm>
            <a:off x="108000" y="228240"/>
            <a:ext cx="857880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ОВАЊЕ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РОМ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М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Cr)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ром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је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лигоелемент биљака и животињ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вори експозициј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пионице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кстилна и кожна индустриј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рада фотографиј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изводња бој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изводња цемент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ротехник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изводња керами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т унос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халациј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тем кож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"/>
          <p:cNvSpPr txBox="1"/>
          <p:nvPr/>
        </p:nvSpPr>
        <p:spPr>
          <a:xfrm>
            <a:off x="457200" y="142920"/>
            <a:ext cx="8229600" cy="598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мптом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ритативно  и алергогено дејство на кожу и слузокож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дерматитис са улцерацијама или без њи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алергијске мнифестације екцематозног и неекцематозног тип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ксични ефекти на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ућном ткиву и бронхим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брезим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тр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гестивном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диоваскуларном систему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јагноза: повишена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центрације хрома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крви и урин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АНО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учајна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овањ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фесионалн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индустријска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теви уно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халацијом, ингестијом и преко кож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аболисањем алкохола под дејством алкохолне дехидрогеназе настаје токсична мравља киселина која доводи до ацидоз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мптоми</a:t>
            </a:r>
            <a:r>
              <a:rPr b="1" lang="sr-Latn-C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овањ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 txBox="1"/>
          <p:nvPr/>
        </p:nvSpPr>
        <p:spPr>
          <a:xfrm>
            <a:off x="457200" y="119664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утно тровање пролази кроз три стадијум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Стадијум пијан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Надражај горњих респираторних путева  и ок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Латентни стадијум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период побољшањ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Манифестни стадију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нифестни стадијум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д лакшег облика тровањ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главобољ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вртоглавиц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гађењ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поремећај равнотеж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сметње у виду-скотоми, сужење видног поља, слепил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нифестни стадију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д тежег облика тровањ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главобољ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тоглавиц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аки болови у трбух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ијаноз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спне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нтална конфуз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вулзије и ко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тман</a:t>
            </a:r>
            <a:r>
              <a:rPr b="1" lang="sr-Latn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овањ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 txBox="1"/>
          <p:nvPr/>
        </p:nvSpPr>
        <p:spPr>
          <a:xfrm>
            <a:off x="179280" y="1125360"/>
            <a:ext cx="896472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азивањ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раћањ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аваж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елудц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гестиј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танол –окупира алкохолну дехидрогеназу и спречава метаболисање метанола до мравље кисели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емодијализа-отклања метанол и мрављу киселин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шка ацидоза се лечи бикарбонати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овање пестицидим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стициди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stis-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га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dere-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би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пстанце или смеше супстанци хемијског или  природног  порекла, намењене за превенцију, уништавање, сузбијање или смањење количине штеточина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ела</a:t>
            </a:r>
            <a:r>
              <a:rPr b="1" lang="sr-Latn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стици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 txBox="1"/>
          <p:nvPr/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ма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мен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сектицид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ербицид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унгицид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дентицид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арицид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матоцид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фолијант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сикант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емостерилизант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пелент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гицид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ктерицид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лусцид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ма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емијском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ставу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J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бамат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тиокарбамат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J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ретрин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нитрофенол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риват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ноксисирћ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с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,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пиридил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иазин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маринск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дињењ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р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еј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талимид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дињ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етал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/>
          </p:nvPr>
        </p:nvSpPr>
        <p:spPr>
          <a:xfrm>
            <a:off x="457200" y="457200"/>
            <a:ext cx="822960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УТЕВИ ИЗЛУЧИВАЊ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›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дахнутим ваздухо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›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ко бубрег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›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ко жуч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›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ко слузокоже ГИТ-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›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ојних, лојних  и млечних жлезд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›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грађивањем у длаке и нокт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инарна и билијарна екскреција представљају најважније путеве излучивања. Излучивање преко млечних жлезда је од токсиколошког значаја за мајке дојиљ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охлорни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сектициди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вотној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и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323640" indent="-32364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икличне структуре, добро растворљиве у масти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3640" indent="-323640"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3640" indent="-32364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јпознатији су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3640" indent="-32364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Д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3640" indent="-32364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лорда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3640" indent="-32364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нда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3640" indent="-32364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ндри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3640" indent="-32364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едри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3640" indent="-323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јчешће се уносе преко коже, инхалацијом, ингестиј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иничка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ика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 txBox="1"/>
          <p:nvPr/>
        </p:nvSpPr>
        <p:spPr>
          <a:xfrm>
            <a:off x="457200" y="128556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утно</a:t>
            </a:r>
            <a:r>
              <a:rPr b="1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овање</a:t>
            </a:r>
            <a:r>
              <a:rPr b="1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чнин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раћањ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вобоља, поремећај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внотеже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тоглавица,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фуз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рестезије, мишићни тремор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вулз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ронично тровањ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шта слаб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нцефалитис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инеруритис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ем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рматити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"/>
          <p:cNvSpPr txBox="1"/>
          <p:nvPr/>
        </p:nvSpPr>
        <p:spPr>
          <a:xfrm>
            <a:off x="457200" y="428760"/>
            <a:ext cx="8229600" cy="56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апија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овања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кид експозиције, спречавање апсорпције и убрзање елиминациј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пирање конвулзија давањем диазепа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ржавање респираторне функциј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таминска терапија (С и В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1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вотној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и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хемијском саставу ради се о веома токсичним естрима фосфорне киселин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акумулирају се у организму и брзо се разграђују у спољашњој средини (не загађују животну средину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исте се за уништавање штетних инсеката, гриња, гљивица, корова и нематод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јчешће су у употреб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ратио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лато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тио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тафо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сало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0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1900"/>
                            </p:stCondLst>
                            <p:childTnLst>
                              <p:par>
                                <p:cTn id="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7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2900"/>
                            </p:stCondLst>
                            <p:childTnLst>
                              <p:par>
                                <p:cTn id="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7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3900"/>
                            </p:stCondLst>
                            <p:childTnLst>
                              <p:par>
                                <p:cTn id="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4900"/>
                            </p:stCondLst>
                            <p:childTnLst>
                              <p:par>
                                <p:cTn id="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7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5900"/>
                            </p:stCondLst>
                            <p:childTnLst>
                              <p:par>
                                <p:cTn id="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7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6900"/>
                            </p:stCondLst>
                            <p:childTnLst>
                              <p:par>
                                <p:cTn id="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7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7900"/>
                            </p:stCondLst>
                            <p:childTnLst>
                              <p:par>
                                <p:cTn id="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7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8900"/>
                            </p:stCondLst>
                            <p:childTnLst>
                              <p:par>
                                <p:cTn id="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7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9900"/>
                            </p:stCondLst>
                            <p:childTnLst>
                              <p:par>
                                <p:cTn id="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7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утно тровање О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скарински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персаливациј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акримациј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к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раћање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лив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онхореј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онхоконстрикциј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адикарди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котински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сцикулације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шић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нично-клонички грчев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ефлексиј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рализ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скулатур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нтрални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вобоља, промена понашања, вртоглавица, конфузија, халуцинације, губитак свести, парализа респираторних мишић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ронично тровање О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емећаји ЦНС-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умо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раздражљивост и анксиознос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промена расположењ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слабљење памћењ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слабљење концентрациј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сензомоторна неуропатија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емећај функције квс-а и јетр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ронични гастрити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ергиски дерматити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структивни бронхити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1752480" y="533160"/>
            <a:ext cx="609624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чење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овања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ФИ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 txBox="1"/>
          <p:nvPr/>
        </p:nvSpPr>
        <p:spPr>
          <a:xfrm>
            <a:off x="285480" y="999720"/>
            <a:ext cx="8629560" cy="51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кид даље експозициј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контаминација - Прање коже водом и сапуном, испирање очију, уста и желудц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лобађање дисајних путева (аспирација секрет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тропин-сулфат - као антагонист ацетилхолину, блокира мускаринске ефекте, али не и никотинске и централ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хибиране холинестеразе (каузална терапиј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мптоматска терапија-кардиотоници, бронходилататори, антибиотици, кисеоник, дијазепа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28760" y="285840"/>
            <a:ext cx="82296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бамати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 txBox="1"/>
          <p:nvPr/>
        </p:nvSpPr>
        <p:spPr>
          <a:xfrm>
            <a:off x="428760" y="785520"/>
            <a:ext cx="8229600" cy="50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бамати представљају Естре карбаминских киселина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исте се као инсектициди, хербициди и фунгицид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акумулирају се у организму и брзо се разграђују у спољашњој средини (не загађују животну средину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ставници ове групе пестицида су: Бутилат, Циклоат, Молинат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бари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јчешће се уносе преко коже и инхалациј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азива мускаринске, никотинске и централне ефек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чењ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кид даље експозиције, деконтаминација, ослобађање дисајних путева, симптоматска терап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тропинсулфат - као антагонист ацетилхолину, блокира мускаринске ефек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28760" y="571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сектициди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љног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екла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нтетски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молози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 txBox="1"/>
          <p:nvPr/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коти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Ротенон,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ретри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посолубилни су, продиру у ЦН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имулишу ЦНС и доводе д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мо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алуцинац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вулз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чење тровањ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мптоматска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ап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тиконвулзивна терап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на седатив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/>
          </p:nvPr>
        </p:nvSpPr>
        <p:spPr>
          <a:xfrm>
            <a:off x="457200" y="30456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овања тешким металима могу бити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АКУТН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случајна, намерна) → услед нагле изложености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ликим количинам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ХРОНИЧНА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услед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дуженог периода излагања ниским концентрацијам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611280" y="189000"/>
            <a:ext cx="8175600" cy="88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ре превенциј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 txBox="1"/>
          <p:nvPr/>
        </p:nvSpPr>
        <p:spPr>
          <a:xfrm>
            <a:off x="499680" y="1000080"/>
            <a:ext cx="864396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хничке мере заштите особа које су изложене пестицидима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Упознавање радника са опасностима од пестицида и снабдевање са упутствима за безбедно руковањ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Омогућити радницима прање руку при прекиду посла и туширање на крају радног време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Обезбедити пружање прве помоћи у случају тровањ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Означити сваки препарат уколико је отрован,начин његовог растварања са препоруком занамену, заштитне мере и савет код тровањ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Сви радници који раде са токсичним пестицидима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рају бити заштићени радним оделима, капом штитником, непропустљивим заштитницима за рамена, рукавицама, респираторима и наочарим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Код прскања пестицида из авиона, пилот не сме учествовати у њиховом утовару, не сме летети кроз маглу и мора да носи бели конбинезон. За овакве послове морају се употребљавати специјални авион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"/>
          <p:cNvSpPr txBox="1"/>
          <p:nvPr/>
        </p:nvSpPr>
        <p:spPr>
          <a:xfrm>
            <a:off x="457200" y="-36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овање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оксини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охлорн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јев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дњих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колик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дин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аришту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нимањ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раживањ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бог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ој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ирок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прострањеност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ичк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емијских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ин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ксичност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јопасниј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оксин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CDD ("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окси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) -2,3,7,8-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трахлородибенз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окси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уран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2,3,7,8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трахлородибензофура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FB-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бог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ксичност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онеразградивост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јства на људски организ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нцероген, мутаген, тератоген ефека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унотоксичан, хепатотоксич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ндокрини дисруптор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подела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оксина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олини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нос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м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халацијом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гестијом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бо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пофилно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актер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јвише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умулирају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ијим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гатим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стим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рани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лечни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изводи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со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б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"/>
          <p:cNvSpPr txBox="1"/>
          <p:nvPr/>
        </p:nvSpPr>
        <p:spPr>
          <a:xfrm>
            <a:off x="457200" y="-36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утна изложеност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соким дозам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јава хлоракн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кожно обољење које карактеришу  кожне лезије налик акнам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јава осип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сколорације и претеране длакав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роничн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ложенос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жим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зам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продуктивн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ксичнос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фект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вороненчад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мањен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одност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ећан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сталост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натних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бачај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штећење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унолошког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штећење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рмонског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"/>
          <p:cNvSpPr txBox="1"/>
          <p:nvPr/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вори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окси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тропогено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екл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горевањем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ских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дињењ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тају као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успродукти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дустријских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цес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ним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емијским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цесим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ској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емијској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дустрији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аљивањем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па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7" name="Picture 2" descr=""/>
          <p:cNvPicPr/>
          <p:nvPr/>
        </p:nvPicPr>
        <p:blipFill>
          <a:blip r:embed="rId1"/>
          <a:stretch/>
        </p:blipFill>
        <p:spPr>
          <a:xfrm>
            <a:off x="7162920" y="4724280"/>
            <a:ext cx="1647720" cy="1433520"/>
          </a:xfrm>
          <a:prstGeom prst="rect">
            <a:avLst/>
          </a:prstGeom>
          <a:ln w="0">
            <a:noFill/>
          </a:ln>
        </p:spPr>
      </p:pic>
      <p:pic>
        <p:nvPicPr>
          <p:cNvPr id="728" name="Picture 3" descr=""/>
          <p:cNvPicPr/>
          <p:nvPr/>
        </p:nvPicPr>
        <p:blipFill>
          <a:blip r:embed="rId2"/>
          <a:stretch/>
        </p:blipFill>
        <p:spPr>
          <a:xfrm>
            <a:off x="7143840" y="785880"/>
            <a:ext cx="1546200" cy="1266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"/>
          <p:cNvSpPr txBox="1"/>
          <p:nvPr/>
        </p:nvSpPr>
        <p:spPr>
          <a:xfrm>
            <a:off x="457200" y="428760"/>
            <a:ext cx="8229600" cy="56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јетнам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961-1971. године,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совн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овањ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калног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новништв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оксини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t Oran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фолијант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јег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истила</a:t>
            </a:r>
            <a:r>
              <a:rPr b="0" lang="fi-F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меричка</a:t>
            </a:r>
            <a:r>
              <a:rPr b="0" lang="fi-F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јска</a:t>
            </a:r>
            <a:r>
              <a:rPr b="0" lang="fi-F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државао</a:t>
            </a:r>
            <a:r>
              <a:rPr b="0" lang="fi-F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</a:t>
            </a:r>
            <a:r>
              <a:rPr b="0" lang="fi-F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D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ђено је 500000 деце с тешким деформитетим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ећана учесталост спонтаних побачај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ећана учесталост разних типова карцино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0" name="Picture 4" descr=""/>
          <p:cNvPicPr/>
          <p:nvPr/>
        </p:nvPicPr>
        <p:blipFill>
          <a:blip r:embed="rId1"/>
          <a:stretch/>
        </p:blipFill>
        <p:spPr>
          <a:xfrm>
            <a:off x="5000760" y="4357800"/>
            <a:ext cx="3190680" cy="2287440"/>
          </a:xfrm>
          <a:prstGeom prst="rect">
            <a:avLst/>
          </a:prstGeom>
          <a:ln w="0">
            <a:noFill/>
          </a:ln>
        </p:spPr>
      </p:pic>
      <p:pic>
        <p:nvPicPr>
          <p:cNvPr id="731" name="Picture 3" descr=""/>
          <p:cNvPicPr/>
          <p:nvPr/>
        </p:nvPicPr>
        <p:blipFill>
          <a:blip r:embed="rId2"/>
          <a:stretch/>
        </p:blipFill>
        <p:spPr>
          <a:xfrm>
            <a:off x="928800" y="4357800"/>
            <a:ext cx="310680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ктични део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ски растварач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 txBox="1"/>
          <p:nvPr/>
        </p:nvSpPr>
        <p:spPr>
          <a:xfrm>
            <a:off x="457200" y="128556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еми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а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дињења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врстом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чном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асовитом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њу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стављена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гљоводоника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 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ја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ају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собност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варања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них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ских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рија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сти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ља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моле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цетон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тро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улозе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ле се н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- алифатични угљоводониц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 - ароматични (циклични) угљоводониц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 - халогени деривати угљоводон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 - алкохоли, етри, естри, алдехиди и кет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 - алициклични угљоводониц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 - угљендисулфи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кспозициј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ећаној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кспозициј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гу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т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ложен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рбари и молери, радници на чишћењу и одмашћивању, у металној, електронској и графичкој индустрији, на преради дрвета и изради намештаја, у индустрији гуме и пластике,  хемијској индустрији,  на  изради  текстила,  одеће,  коже  и обуће, прехрамбеној индустрији, хемијским лабораторија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"/>
          <p:cNvSpPr txBox="1"/>
          <p:nvPr/>
        </p:nvSpPr>
        <p:spPr>
          <a:xfrm>
            <a:off x="468360" y="692280"/>
            <a:ext cx="8229600" cy="54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јзначајниј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ичке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актеристике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ских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варач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новишт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ксикологије с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арљивост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ворљивост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стим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ак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з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арљивост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вод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ак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аминациј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дн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ине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бр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ворљивос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стим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могућуј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зу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псорпцију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ских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варач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к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ућ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њихову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стрибуцију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кив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гат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стим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д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ћ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љит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ој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ксичн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фект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 txBox="1"/>
          <p:nvPr/>
        </p:nvSpPr>
        <p:spPr>
          <a:xfrm>
            <a:off x="457200" y="214200"/>
            <a:ext cx="8229600" cy="59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псорпц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халациј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к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ж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гестивног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ак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ко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ласк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м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носе с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вљу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кив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д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лежу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отрансформациј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тр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брезим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мулирају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стрибуц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ткив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гат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пидим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(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сно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киво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рвни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тр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е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гате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вљу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це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шићи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умулациј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му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вед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ој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овањ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ш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дин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ко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станк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кспозициј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лиминац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јвећим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лом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к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ућ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промењеном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лику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њим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лом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к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брег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 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ж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лезд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ојн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лачн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229600" cy="79200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b9899"/>
                </a:solidFill>
                <a:latin typeface="Times New Roman"/>
                <a:ea typeface="Times New Roman"/>
              </a:rPr>
              <a:t>Токсикокинетика</a:t>
            </a:r>
            <a:r>
              <a:rPr b="1" lang="sr-Latn-CS" sz="4000" spc="-1" strike="noStrike">
                <a:solidFill>
                  <a:srgbClr val="7b9899"/>
                </a:solidFill>
                <a:latin typeface="Times New Roman"/>
                <a:ea typeface="Times New Roman"/>
              </a:rPr>
              <a:t> </a:t>
            </a:r>
            <a:r>
              <a:rPr b="1" lang="en-US" sz="4000" spc="-1" strike="noStrike">
                <a:solidFill>
                  <a:srgbClr val="7b9899"/>
                </a:solidFill>
                <a:latin typeface="Times New Roman"/>
                <a:ea typeface="Times New Roman"/>
              </a:rPr>
              <a:t>метал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3137040" y="1197000"/>
            <a:ext cx="1146960" cy="45972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ahoma"/>
              </a:rPr>
              <a:t>Хра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4"/>
          <p:cNvSpPr/>
          <p:nvPr/>
        </p:nvSpPr>
        <p:spPr>
          <a:xfrm>
            <a:off x="324000" y="2133720"/>
            <a:ext cx="1871640" cy="459720"/>
          </a:xfrm>
          <a:prstGeom prst="rect">
            <a:avLst/>
          </a:prstGeom>
          <a:solidFill>
            <a:srgbClr val="0000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3300"/>
                </a:solidFill>
                <a:latin typeface="Tahoma"/>
              </a:rPr>
              <a:t>ГИ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Text Box 5"/>
          <p:cNvSpPr/>
          <p:nvPr/>
        </p:nvSpPr>
        <p:spPr>
          <a:xfrm>
            <a:off x="1187280" y="2924280"/>
            <a:ext cx="1440000" cy="459720"/>
          </a:xfrm>
          <a:prstGeom prst="rect">
            <a:avLst/>
          </a:prstGeom>
          <a:solidFill>
            <a:srgbClr val="1f497d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3300"/>
                </a:solidFill>
                <a:latin typeface="Tahoma"/>
              </a:rPr>
              <a:t>јетр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Text Box 6"/>
          <p:cNvSpPr/>
          <p:nvPr/>
        </p:nvSpPr>
        <p:spPr>
          <a:xfrm>
            <a:off x="755640" y="3716280"/>
            <a:ext cx="1440000" cy="459720"/>
          </a:xfrm>
          <a:prstGeom prst="rect">
            <a:avLst/>
          </a:prstGeom>
          <a:solidFill>
            <a:srgbClr val="1f497d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3300"/>
                </a:solidFill>
                <a:latin typeface="Tahoma"/>
              </a:rPr>
              <a:t>жу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Oval 7"/>
          <p:cNvSpPr/>
          <p:nvPr/>
        </p:nvSpPr>
        <p:spPr>
          <a:xfrm>
            <a:off x="3132000" y="2708280"/>
            <a:ext cx="1440000" cy="792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ahoma"/>
              </a:rPr>
              <a:t>крвото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Text Box 8"/>
          <p:cNvSpPr/>
          <p:nvPr/>
        </p:nvSpPr>
        <p:spPr>
          <a:xfrm>
            <a:off x="4932360" y="2924280"/>
            <a:ext cx="2232000" cy="825480"/>
          </a:xfrm>
          <a:prstGeom prst="rect">
            <a:avLst/>
          </a:prstGeom>
          <a:solidFill>
            <a:srgbClr val="1f497d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3300"/>
                </a:solidFill>
                <a:latin typeface="Tahoma"/>
              </a:rPr>
              <a:t>остали</a:t>
            </a:r>
            <a:r>
              <a:rPr b="1" lang="sr-Latn-CS" sz="24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1" lang="sr-CS" sz="2400" spc="-1" strike="noStrike">
                <a:solidFill>
                  <a:srgbClr val="ff3300"/>
                </a:solidFill>
                <a:latin typeface="Tahoma"/>
              </a:rPr>
              <a:t>орган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9"/>
          <p:cNvSpPr/>
          <p:nvPr/>
        </p:nvSpPr>
        <p:spPr>
          <a:xfrm>
            <a:off x="3203640" y="4869000"/>
            <a:ext cx="1439640" cy="459720"/>
          </a:xfrm>
          <a:prstGeom prst="rect">
            <a:avLst/>
          </a:prstGeom>
          <a:solidFill>
            <a:srgbClr val="00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3300"/>
                </a:solidFill>
                <a:latin typeface="Tahoma"/>
              </a:rPr>
              <a:t>ури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Text Box 10"/>
          <p:cNvSpPr/>
          <p:nvPr/>
        </p:nvSpPr>
        <p:spPr>
          <a:xfrm>
            <a:off x="324000" y="4869000"/>
            <a:ext cx="1439640" cy="459720"/>
          </a:xfrm>
          <a:prstGeom prst="rect">
            <a:avLst/>
          </a:prstGeom>
          <a:solidFill>
            <a:srgbClr val="00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3300"/>
                </a:solidFill>
                <a:latin typeface="Tahoma"/>
              </a:rPr>
              <a:t>феце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Text Box 11"/>
          <p:cNvSpPr/>
          <p:nvPr/>
        </p:nvSpPr>
        <p:spPr>
          <a:xfrm>
            <a:off x="3203640" y="3860640"/>
            <a:ext cx="1439640" cy="459720"/>
          </a:xfrm>
          <a:prstGeom prst="rect">
            <a:avLst/>
          </a:prstGeom>
          <a:solidFill>
            <a:srgbClr val="1f497d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3300"/>
                </a:solidFill>
                <a:latin typeface="Tahoma"/>
              </a:rPr>
              <a:t>бубре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12"/>
          <p:cNvSpPr/>
          <p:nvPr/>
        </p:nvSpPr>
        <p:spPr>
          <a:xfrm>
            <a:off x="5076720" y="4869000"/>
            <a:ext cx="1008000" cy="459720"/>
          </a:xfrm>
          <a:prstGeom prst="rect">
            <a:avLst/>
          </a:prstGeom>
          <a:solidFill>
            <a:srgbClr val="00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3300"/>
                </a:solidFill>
                <a:latin typeface="Tahoma"/>
              </a:rPr>
              <a:t>зно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13"/>
          <p:cNvSpPr/>
          <p:nvPr/>
        </p:nvSpPr>
        <p:spPr>
          <a:xfrm>
            <a:off x="6227640" y="4869000"/>
            <a:ext cx="987480" cy="459720"/>
          </a:xfrm>
          <a:prstGeom prst="rect">
            <a:avLst/>
          </a:prstGeom>
          <a:solidFill>
            <a:srgbClr val="00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3300"/>
                </a:solidFill>
                <a:latin typeface="Tahoma"/>
              </a:rPr>
              <a:t>кос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Text Box 14"/>
          <p:cNvSpPr/>
          <p:nvPr/>
        </p:nvSpPr>
        <p:spPr>
          <a:xfrm>
            <a:off x="5076720" y="3860640"/>
            <a:ext cx="1440000" cy="398880"/>
          </a:xfrm>
          <a:prstGeom prst="rect">
            <a:avLst/>
          </a:prstGeom>
          <a:solidFill>
            <a:srgbClr val="1f497d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3300"/>
                </a:solidFill>
                <a:latin typeface="Tahoma"/>
              </a:rPr>
              <a:t>кож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Line 15"/>
          <p:cNvSpPr/>
          <p:nvPr/>
        </p:nvSpPr>
        <p:spPr>
          <a:xfrm flipH="1">
            <a:off x="2195280" y="1628640"/>
            <a:ext cx="936360" cy="5050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Line 16"/>
          <p:cNvSpPr/>
          <p:nvPr/>
        </p:nvSpPr>
        <p:spPr>
          <a:xfrm>
            <a:off x="576360" y="2637000"/>
            <a:ext cx="34920" cy="2232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Line 17"/>
          <p:cNvSpPr/>
          <p:nvPr/>
        </p:nvSpPr>
        <p:spPr>
          <a:xfrm>
            <a:off x="1547640" y="3429000"/>
            <a:ext cx="0" cy="360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Line 18"/>
          <p:cNvSpPr/>
          <p:nvPr/>
        </p:nvSpPr>
        <p:spPr>
          <a:xfrm flipV="1">
            <a:off x="900000" y="2565000"/>
            <a:ext cx="0" cy="1150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Line 19"/>
          <p:cNvSpPr/>
          <p:nvPr/>
        </p:nvSpPr>
        <p:spPr>
          <a:xfrm>
            <a:off x="1547640" y="2637000"/>
            <a:ext cx="0" cy="360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20"/>
          <p:cNvSpPr/>
          <p:nvPr/>
        </p:nvSpPr>
        <p:spPr>
          <a:xfrm>
            <a:off x="2700360" y="3068640"/>
            <a:ext cx="43164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21"/>
          <p:cNvSpPr/>
          <p:nvPr/>
        </p:nvSpPr>
        <p:spPr>
          <a:xfrm flipH="1">
            <a:off x="2556000" y="3213000"/>
            <a:ext cx="5032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22"/>
          <p:cNvSpPr/>
          <p:nvPr/>
        </p:nvSpPr>
        <p:spPr>
          <a:xfrm>
            <a:off x="4572000" y="3068640"/>
            <a:ext cx="43164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Line 23"/>
          <p:cNvSpPr/>
          <p:nvPr/>
        </p:nvSpPr>
        <p:spPr>
          <a:xfrm flipH="1">
            <a:off x="4500360" y="3213000"/>
            <a:ext cx="50292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Line 24"/>
          <p:cNvSpPr/>
          <p:nvPr/>
        </p:nvSpPr>
        <p:spPr>
          <a:xfrm>
            <a:off x="3851280" y="4437000"/>
            <a:ext cx="0" cy="432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25"/>
          <p:cNvSpPr/>
          <p:nvPr/>
        </p:nvSpPr>
        <p:spPr>
          <a:xfrm>
            <a:off x="3924360" y="3500280"/>
            <a:ext cx="0" cy="432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Line 26"/>
          <p:cNvSpPr/>
          <p:nvPr/>
        </p:nvSpPr>
        <p:spPr>
          <a:xfrm>
            <a:off x="4572000" y="3357720"/>
            <a:ext cx="936720" cy="3585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Line 27"/>
          <p:cNvSpPr/>
          <p:nvPr/>
        </p:nvSpPr>
        <p:spPr>
          <a:xfrm flipH="1">
            <a:off x="5435640" y="4292640"/>
            <a:ext cx="216000" cy="576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28"/>
          <p:cNvSpPr/>
          <p:nvPr/>
        </p:nvSpPr>
        <p:spPr>
          <a:xfrm>
            <a:off x="6084720" y="4292640"/>
            <a:ext cx="432000" cy="576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Line 29"/>
          <p:cNvSpPr/>
          <p:nvPr/>
        </p:nvSpPr>
        <p:spPr>
          <a:xfrm flipV="1">
            <a:off x="3780000" y="3428640"/>
            <a:ext cx="0" cy="4316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Line 30"/>
          <p:cNvSpPr/>
          <p:nvPr/>
        </p:nvSpPr>
        <p:spPr>
          <a:xfrm flipH="1" flipV="1">
            <a:off x="4427280" y="3428640"/>
            <a:ext cx="936360" cy="360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31"/>
          <p:cNvSpPr/>
          <p:nvPr/>
        </p:nvSpPr>
        <p:spPr>
          <a:xfrm>
            <a:off x="179280" y="6165720"/>
            <a:ext cx="822960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0000"/>
                </a:solidFill>
                <a:latin typeface="Times New Roman"/>
              </a:rPr>
              <a:t>Судбина</a:t>
            </a:r>
            <a:r>
              <a:rPr b="1" lang="sr-Latn-C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ff0000"/>
                </a:solidFill>
                <a:latin typeface="Times New Roman"/>
              </a:rPr>
              <a:t>метала</a:t>
            </a:r>
            <a:r>
              <a:rPr b="1" lang="sr-Latn-C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ff0000"/>
                </a:solidFill>
                <a:latin typeface="Times New Roman"/>
              </a:rPr>
              <a:t>у</a:t>
            </a:r>
            <a:r>
              <a:rPr b="1" lang="sr-Latn-C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ff0000"/>
                </a:solidFill>
                <a:latin typeface="Times New Roman"/>
              </a:rPr>
              <a:t>оргнанизму</a:t>
            </a:r>
            <a:r>
              <a:rPr b="1" lang="sr-Latn-C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ff0000"/>
                </a:solidFill>
                <a:latin typeface="Times New Roman"/>
              </a:rPr>
              <a:t>после</a:t>
            </a:r>
            <a:r>
              <a:rPr b="1" lang="sr-Latn-C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ff0000"/>
                </a:solidFill>
                <a:latin typeface="Times New Roman"/>
              </a:rPr>
              <a:t>уношења</a:t>
            </a:r>
            <a:r>
              <a:rPr b="1" lang="sr-Latn-C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ff0000"/>
                </a:solidFill>
                <a:latin typeface="Times New Roman"/>
              </a:rPr>
              <a:t>храном</a:t>
            </a:r>
            <a:r>
              <a:rPr b="1" lang="sr-Latn-CS" sz="36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Text Box 32"/>
          <p:cNvSpPr/>
          <p:nvPr/>
        </p:nvSpPr>
        <p:spPr>
          <a:xfrm>
            <a:off x="7429680" y="1217520"/>
            <a:ext cx="1714320" cy="91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ff3300"/>
                </a:solidFill>
                <a:latin typeface="Tahoma"/>
              </a:rPr>
              <a:t>Извор</a:t>
            </a:r>
            <a:r>
              <a:rPr b="1" lang="sr-Latn-CS" sz="18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1" lang="sr-CS" sz="1800" spc="-1" strike="noStrike">
                <a:solidFill>
                  <a:srgbClr val="ff3300"/>
                </a:solidFill>
                <a:latin typeface="Tahoma"/>
              </a:rPr>
              <a:t>токсичних</a:t>
            </a:r>
            <a:r>
              <a:rPr b="1" lang="sr-Latn-CS" sz="18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1" lang="sr-CS" sz="1800" spc="-1" strike="noStrike">
                <a:solidFill>
                  <a:srgbClr val="ff3300"/>
                </a:solidFill>
                <a:latin typeface="Tahoma"/>
              </a:rPr>
              <a:t>метал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Text Box 33"/>
          <p:cNvSpPr/>
          <p:nvPr/>
        </p:nvSpPr>
        <p:spPr>
          <a:xfrm>
            <a:off x="7429680" y="2341440"/>
            <a:ext cx="171432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ff3300"/>
                </a:solidFill>
                <a:latin typeface="Tahoma"/>
              </a:rPr>
              <a:t>Апсорпциј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34"/>
          <p:cNvSpPr/>
          <p:nvPr/>
        </p:nvSpPr>
        <p:spPr>
          <a:xfrm>
            <a:off x="7286760" y="3214800"/>
            <a:ext cx="1857240" cy="64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ff3300"/>
                </a:solidFill>
                <a:latin typeface="Tahoma"/>
              </a:rPr>
              <a:t>Транспорт</a:t>
            </a:r>
            <a:r>
              <a:rPr b="1" lang="sr-Latn-CS" sz="18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1" lang="sr-CS" sz="1800" spc="-1" strike="noStrike">
                <a:solidFill>
                  <a:srgbClr val="ff3300"/>
                </a:solidFill>
                <a:latin typeface="Tahoma"/>
              </a:rPr>
              <a:t>и</a:t>
            </a:r>
            <a:r>
              <a:rPr b="1" lang="sr-Latn-CS" sz="18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1" lang="sr-CS" sz="1800" spc="-1" strike="noStrike">
                <a:solidFill>
                  <a:srgbClr val="ff3300"/>
                </a:solidFill>
                <a:latin typeface="Tahoma"/>
              </a:rPr>
              <a:t>дистрибуциј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35"/>
          <p:cNvSpPr/>
          <p:nvPr/>
        </p:nvSpPr>
        <p:spPr>
          <a:xfrm>
            <a:off x="7286760" y="4869000"/>
            <a:ext cx="185724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ff3300"/>
                </a:solidFill>
                <a:latin typeface="Tahoma"/>
              </a:rPr>
              <a:t>Елиминациј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иничка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и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уротоксичност</a:t>
            </a:r>
            <a:r>
              <a:rPr b="1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(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котички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фекат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уропатије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  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ритација</a:t>
            </a:r>
            <a:r>
              <a:rPr b="1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козе</a:t>
            </a:r>
            <a:r>
              <a:rPr b="1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а</a:t>
            </a:r>
            <a:r>
              <a:rPr b="1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1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сајних</a:t>
            </a:r>
            <a:r>
              <a:rPr b="1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те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  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мене</a:t>
            </a:r>
            <a:r>
              <a:rPr b="1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</a:t>
            </a:r>
            <a:r>
              <a:rPr b="1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жи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рматитис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стма</a:t>
            </a:r>
            <a:r>
              <a:rPr b="1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1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ге</a:t>
            </a:r>
            <a:r>
              <a:rPr b="1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ергијске</a:t>
            </a:r>
            <a:r>
              <a:rPr b="1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кц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ематотоксично</a:t>
            </a:r>
            <a:r>
              <a:rPr b="1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ловање</a:t>
            </a:r>
            <a:r>
              <a:rPr b="1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емија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укемија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  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епатотоксичн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  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фротоксичн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  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диотоксичност</a:t>
            </a:r>
            <a:r>
              <a:rPr b="1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итмије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   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јство</a:t>
            </a:r>
            <a:r>
              <a:rPr b="1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</a:t>
            </a:r>
            <a:r>
              <a:rPr b="1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наде</a:t>
            </a:r>
            <a:r>
              <a:rPr b="1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рматотоксичност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 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нцерогена</a:t>
            </a:r>
            <a:r>
              <a:rPr b="1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тагена</a:t>
            </a:r>
            <a:r>
              <a:rPr b="1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1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атогена</a:t>
            </a:r>
            <a:r>
              <a:rPr b="1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ј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357120" y="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штита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асова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р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 txBox="1"/>
          <p:nvPr/>
        </p:nvSpPr>
        <p:spPr>
          <a:xfrm>
            <a:off x="0" y="999720"/>
            <a:ext cx="9036000" cy="472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411480" indent="-411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Техничке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i="1" lang="sr-C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мере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i="1" lang="sr-C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заштите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1480" indent="-411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пституциј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ксичних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риј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ас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р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токсичним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рија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1480" indent="-411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ерметизациј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утоматизациј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ханизациј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њују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временој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емиској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изводњ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1480" indent="-411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двајање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шин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еђај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ји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ше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раду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ксичних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риј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ебне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сториј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1480" indent="-411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калн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водн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нтилациј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1480" indent="-411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   </a:t>
            </a:r>
            <a:r>
              <a:rPr b="1" i="1" lang="sr-C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Хигијенске мере заштите </a:t>
            </a:r>
            <a:r>
              <a:rPr b="1" lang="sr-C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1480" indent="-4114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калњање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ксичних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рија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чном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њу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дних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ршина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шина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1480" indent="-4114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жање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ровина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тових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извода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ебне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творене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сторије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де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дници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рав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1480" indent="-4114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гијена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еће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чна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гије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1480" indent="-411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1480" indent="-411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чна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штитна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пуљач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титниц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ч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ц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штитн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очар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штитн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кавиц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ум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штитн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ћ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ипел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зм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штитн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ел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умираног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т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асн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с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олациони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пара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исте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штиту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а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сање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кодљивих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асова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ра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еросола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ловима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да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дној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тмосфери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центрација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сеоника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ња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6%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ицинске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ре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шти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 txBox="1"/>
          <p:nvPr/>
        </p:nvSpPr>
        <p:spPr>
          <a:xfrm>
            <a:off x="457200" y="571680"/>
            <a:ext cx="8229600" cy="62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вентивни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равствени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глед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тходни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гледи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дити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чун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ојању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нзибилизације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емијске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ксе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иодични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гледи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нредни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гледи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- 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учају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ненадно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ећаних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центрациј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кси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дној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ини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емећај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рављ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ћег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ој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дник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ођењу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ве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хнологије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ве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ровине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ролни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гледи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-  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ше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иљу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ћењ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оравк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талих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емећај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датне</a:t>
            </a:r>
            <a:r>
              <a:rPr b="1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ре</a:t>
            </a:r>
            <a:r>
              <a:rPr b="1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штит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раћење</a:t>
            </a:r>
            <a:r>
              <a:rPr b="1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емена</a:t>
            </a:r>
            <a:r>
              <a:rPr b="1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кспозициј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раћење</a:t>
            </a:r>
            <a:r>
              <a:rPr b="1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дног</a:t>
            </a:r>
            <a:r>
              <a:rPr b="1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еме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дужење</a:t>
            </a:r>
            <a:r>
              <a:rPr b="1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дишњег</a:t>
            </a:r>
            <a:r>
              <a:rPr b="1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мора</a:t>
            </a:r>
            <a:r>
              <a:rPr b="1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ји</a:t>
            </a:r>
            <a:r>
              <a:rPr b="1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</a:t>
            </a:r>
            <a:r>
              <a:rPr b="1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исти</a:t>
            </a:r>
            <a:r>
              <a:rPr b="1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1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а</a:t>
            </a:r>
            <a:r>
              <a:rPr b="1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</a:t>
            </a:r>
            <a:r>
              <a:rPr b="1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и</a:t>
            </a:r>
            <a:r>
              <a:rPr b="1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равствено</a:t>
            </a:r>
            <a:r>
              <a:rPr b="1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свећивање</a:t>
            </a:r>
            <a:r>
              <a:rPr b="1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1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дукац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дника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ба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ознати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родом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еми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их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кси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јством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м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дицама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равље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гућностима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венције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његовим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делом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ме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16:21:48Z</dcterms:created>
  <dc:creator>Vlatka Brumen</dc:creator>
  <dc:description/>
  <dc:language>en-US</dc:language>
  <cp:lastModifiedBy>Maja</cp:lastModifiedBy>
  <dcterms:modified xsi:type="dcterms:W3CDTF">2023-09-14T09:34:13Z</dcterms:modified>
  <cp:revision>270</cp:revision>
  <dc:subject/>
  <dc:title>ZDRAVSTVENI UČINCI METALA</dc:title>
</cp:coreProperties>
</file>